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F447-DA78-4455-B9FB-9DF9F0FAC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759F-B072-4EA5-9FD6-8A64C85AD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E6DE-D01B-404E-842A-523543DF9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96BE-6BDE-4391-9931-B4E9C008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8286-FD27-4D19-AF85-1D69BEACE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F664-1DD7-4EF9-A279-09B72DA76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19AD-DB10-47FD-A349-3C35BD70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134E-4C55-45DD-98CB-68F8F7E4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B62A-BCF8-419E-BD7C-199DE625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CF36-6700-4FBA-B4EC-B8A4E7D1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25B9-CDE3-4A60-BD8A-8EFF37F9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AA6F-FEF2-4950-988E-0C55627C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FF09-65BE-47BD-A78E-6E363793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6DB4-A20C-4E98-9D16-7415C0CC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3C45-BAAF-40F0-9434-3017B0C17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Lucida Handwriting"/>
              </a:rPr>
              <a:t>植生入門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Lucida Handwriting"/>
              </a:rPr>
              <a:t>世界のバイオーム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pic>
        <p:nvPicPr>
          <p:cNvPr id="51" name="コンテンツ プレースホルダー 4" descr="生態学と植生_ページ_02.jpg"/>
          <p:cNvPicPr/>
          <p:nvPr/>
        </p:nvPicPr>
        <p:blipFill>
          <a:blip r:embed="rId1"/>
          <a:srcRect l="-16747" t="0" r="-16747" b="0"/>
          <a:stretch/>
        </p:blipFill>
        <p:spPr>
          <a:xfrm>
            <a:off x="-252360" y="2060640"/>
            <a:ext cx="10363320" cy="5486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Lucida Handwriting"/>
              </a:rPr>
              <a:t>吉良による植生区分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pic>
        <p:nvPicPr>
          <p:cNvPr id="53" name="コンテンツ プレースホルダー 5" descr="生態学と植生_ページ_07.jpg"/>
          <p:cNvPicPr/>
          <p:nvPr/>
        </p:nvPicPr>
        <p:blipFill>
          <a:blip r:embed="rId1"/>
          <a:srcRect l="-44757" t="0" r="-44757" b="0"/>
          <a:stretch/>
        </p:blipFill>
        <p:spPr>
          <a:xfrm>
            <a:off x="468360" y="1022400"/>
            <a:ext cx="11022120" cy="5835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34560"/>
            <a:ext cx="6116760" cy="87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宮脇昭による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pic>
        <p:nvPicPr>
          <p:cNvPr id="55" name="コンテンツ プレースホルダー 3" descr="生態学と植生_ページ_08.jpg"/>
          <p:cNvPicPr/>
          <p:nvPr/>
        </p:nvPicPr>
        <p:blipFill>
          <a:blip r:embed="rId1"/>
          <a:srcRect l="-37772" t="0" r="-37772" b="0"/>
          <a:stretch/>
        </p:blipFill>
        <p:spPr>
          <a:xfrm>
            <a:off x="-252360" y="1276200"/>
            <a:ext cx="10477440" cy="5546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Lucida Handwriting"/>
              </a:rPr>
              <a:t>高度，緯度断面の自然植生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pic>
        <p:nvPicPr>
          <p:cNvPr id="57" name="コンテンツ プレースホルダー 3" descr="生態学と植生_ページ_09.jpg"/>
          <p:cNvPicPr/>
          <p:nvPr/>
        </p:nvPicPr>
        <p:blipFill>
          <a:blip r:embed="rId1"/>
          <a:srcRect l="0" t="-12922" r="0" b="-12922"/>
          <a:stretch/>
        </p:blipFill>
        <p:spPr>
          <a:xfrm>
            <a:off x="85680" y="1268280"/>
            <a:ext cx="9070920" cy="4802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Lucida Handwriting"/>
              </a:rPr>
              <a:t>最終氷期</a:t>
            </a: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2</a:t>
            </a:r>
            <a:r>
              <a:rPr b="0" lang="ja-JP" sz="4400" spc="-1" strike="noStrike">
                <a:solidFill>
                  <a:srgbClr val="000000"/>
                </a:solidFill>
                <a:latin typeface="Lucida Handwriting"/>
              </a:rPr>
              <a:t>万年前の植生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pic>
        <p:nvPicPr>
          <p:cNvPr id="59" name="コンテンツ プレースホルダー 3" descr="生態学と植生_ページ_11.jpg"/>
          <p:cNvPicPr/>
          <p:nvPr/>
        </p:nvPicPr>
        <p:blipFill>
          <a:blip r:embed="rId1"/>
          <a:srcRect l="-47272" t="0" r="-47272" b="0"/>
          <a:stretch/>
        </p:blipFill>
        <p:spPr>
          <a:xfrm>
            <a:off x="-1260360" y="1700280"/>
            <a:ext cx="11158560" cy="5908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Lucida Handwriting"/>
              </a:rPr>
              <a:t>陸上植物の遷移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pic>
        <p:nvPicPr>
          <p:cNvPr id="61" name="コンテンツ プレースホルダー 3" descr="生態学と植生_ページ_13.jpg"/>
          <p:cNvPicPr/>
          <p:nvPr/>
        </p:nvPicPr>
        <p:blipFill>
          <a:blip r:embed="rId1"/>
          <a:srcRect l="0" t="-6036" r="0" b="-6036"/>
          <a:stretch/>
        </p:blipFill>
        <p:spPr>
          <a:xfrm>
            <a:off x="324000" y="1125360"/>
            <a:ext cx="7772400" cy="4114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</p:pic>
      <p:pic>
        <p:nvPicPr>
          <p:cNvPr id="62" name="図 4" descr="生態学と植生_ページ_16.jpg"/>
          <p:cNvPicPr/>
          <p:nvPr/>
        </p:nvPicPr>
        <p:blipFill>
          <a:blip r:embed="rId2"/>
          <a:stretch/>
        </p:blipFill>
        <p:spPr>
          <a:xfrm>
            <a:off x="4165560" y="4573440"/>
            <a:ext cx="49784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Lucida Handwriting"/>
              </a:rPr>
              <a:t>自然植生，代償植生などの概念図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pic>
        <p:nvPicPr>
          <p:cNvPr id="64" name="コンテンツ プレースホルダー 3" descr="生態学と植生_ページ_25.jpg"/>
          <p:cNvPicPr/>
          <p:nvPr/>
        </p:nvPicPr>
        <p:blipFill>
          <a:blip r:embed="rId1"/>
          <a:srcRect l="0" t="-10856" r="0" b="-10856"/>
          <a:stretch/>
        </p:blipFill>
        <p:spPr>
          <a:xfrm>
            <a:off x="250920" y="1341360"/>
            <a:ext cx="8729640" cy="4621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2T16:15:51Z</dcterms:created>
  <dc:creator>木庭 元晴</dc:creator>
  <dc:description/>
  <dc:language>en-US</dc:language>
  <cp:lastModifiedBy>木庭 元晴</cp:lastModifiedBy>
  <dcterms:modified xsi:type="dcterms:W3CDTF">2015-06-30T08:09:15Z</dcterms:modified>
  <cp:revision>16</cp:revision>
  <dc:subject/>
  <dc:title>気候と植生</dc:title>
</cp:coreProperties>
</file>